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920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4C9-FABC-4D34-9197-F96338416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1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How can students understand a virtual collaborative problem solving if they don’t experience i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0F1-C0B2-46A0-9638-EACD0338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1CC-D669-4001-90F3-2C4F69A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A40-3C75-43D2-BDFA-56F31DEA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060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22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060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22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3F4-751D-47D9-AB09-D71C1CF3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9ED7-141E-4BDD-93D6-E13E6DD7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1DFA-43EE-4247-81D2-EBAD893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C0B-65E7-431A-9542-49D41AA4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915E-46CD-4FEC-9F2D-DBD9660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9D9C-06EA-46B3-91AF-F9641913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748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41B-9561-4C93-81A4-A5593B7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F1F9-43B0-4300-B4AF-A60F6A98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6AC-F211-48DA-927F-B1A50DD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C530-00AE-4C5A-A7AD-829205CB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E849-EE01-4794-9EFA-E1A9313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7D3A-9E2A-4D68-9FF2-869D575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7560-89B4-4CB5-800C-17A69091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060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22280" y="162828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060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22280" y="3747240"/>
            <a:ext cx="251532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157-2FBC-4401-A10E-7EA0D75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439-3EF8-4903-B70C-1F751633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2A5-15F2-499E-AA3F-AB47073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4FB-2129-4F66-9A0B-97AA26A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74898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BA4-F6BD-4E7E-931C-E6E3E51E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0D2-8CAB-42D2-A4EF-3ACC4C3C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42840" y="374724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021-E5A6-4061-9FB2-668FA25F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573840"/>
            <a:ext cx="7489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2840" y="1628280"/>
            <a:ext cx="381240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3747240"/>
            <a:ext cx="78123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07E-B9CD-4734-87A4-CB057498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539-5BDF-428D-802C-CE5EAE967256}" type="slidenum">
              <a:rPr b="1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2100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157-F4E0-4E02-8861-1E677CE9DB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secamphq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0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Collaborative Problem-Solving and </a:t>
            </a:r>
            <a:br>
              <a:rPr sz="4000"/>
            </a:b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 Black"/>
              </a:rPr>
              <a:t>Virtual Te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Most’ students … to work in a te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eed to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uild the skill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to work effectively in a virtual team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effective social exchanges and communication skil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collaborative behaviou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Develop ability to have deep and active discussion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re they active learners or “easy-riders”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am et al, 2005, Virtual teams: Surviving or thriving?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2800" y="1986120"/>
            <a:ext cx="8258400" cy="28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Team Memb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able 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opt and adap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o new technologi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lex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a changing variety of assignment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ed superior tea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ticipation skil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members must quickl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culturat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[assimilate culturally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be able to wor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h &amp; Selby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489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5 Challenges to Virtual Team Su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812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Building trust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within a virtual tea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aximising gains and minimising losses on Virtual Teams [risk management]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vercoming feelings of </a:t>
            </a: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isolation and detachment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associated with virtual team wor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Arial"/>
              </a:rPr>
              <a:t>Balancing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technical and interpersonal skills among Virtual Team memb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ssessment and recognition of virtual team performan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[Kirkman et al, 2002]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5084280"/>
            <a:ext cx="78123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://www.kelowna.ca/CityPage/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ages//iGo/Telecommutefunny.gi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4583160" cy="398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Team R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ffective team begins with face-to-face and includes face-to-face opportunities on an ongoing basis (developing trust)**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owledge and group culture need to be made explici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r and consist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rtual meetings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nore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ectations must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early outli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so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be recognized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eam must have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ear purpose and foc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ep the technology simple, usable, and availabl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h &amp; Selby]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Similar but Different 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Virtual Tea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Work on the same proje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eam members are hand pick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ave a finishing date (finite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Virtual Communit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hare common interes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pen invitation to joi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re ongoing and evolving (infinite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They may use the same technolog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es for collaborative team su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Soci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couraging personal contac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lebrating team success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6600"/>
                </a:solidFill>
                <a:latin typeface="Arial"/>
              </a:rPr>
              <a:t>Organisational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gularly scheduled meeting times and time limi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ten agend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eping meeting minut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ng established rol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ing tasks to be completed prior to next meeting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echnical aspects of Collaborative Problem Solv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812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Synchronous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environ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hat rooms (mIRC, MSN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ollaborative tools such as Netmeet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Asynchronous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iscussion Foru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Wiki’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6600"/>
                </a:solidFill>
                <a:latin typeface="Arial"/>
              </a:rPr>
              <a:t>What do you use in your school?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Collaborative Technolog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aseCampHQ Online Tools</a:t>
            </a:r>
            <a:br>
              <a:rPr sz="2800"/>
            </a:b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asecamphq.com/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o Do lis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Google Docs &amp; Spreadshee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Revision histor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iki’s, Blogs, Discussion Group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icrosoft ‘Groove’ 200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Moodl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Black"/>
              </a:rPr>
              <a:t>Collaborative Problem Solv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 work well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Issues relating to the formation of the team, eg. common purpose, voluntary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roblem-solving process needs to be equal, equal access, respectful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roject must be time-limite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Screen dump of collaborative t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6000" cy="4572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348000" y="2062080"/>
            <a:ext cx="5796000" cy="47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echnology Issues to consider when working in a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hat standards are you going to use for filenames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ow are you going to keep track of revisions or versions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Is there an ‘over dependence’ on email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How are you going to back work up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What type of security will you need?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(these issues will be considered later in the theory)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Knowledg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way a company stores, organizes and accesses internal and external information’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ganizational Memory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someone leaves an organization …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uilding the collective knowledg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Distinction between knowledge sharing and managemen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The  Study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Unit 3 Outcome 2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Students need to ‘demonstrate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insightful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knowledge about the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characteristics of collaborative problem-solving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3200" spc="-1" strike="noStrike">
                <a:solidFill>
                  <a:srgbClr val="ff6600"/>
                </a:solidFill>
                <a:latin typeface="Arial"/>
              </a:rPr>
              <a:t>and knowledge sharing practices of virtual teams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’ </a:t>
            </a:r>
            <a:br>
              <a:rPr sz="3200"/>
            </a:b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[pg 18 of Assessment Guide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Arial Black"/>
              </a:rPr>
              <a:t>Characteristics of Collaborative Problem Solving</a:t>
            </a:r>
            <a:endParaRPr b="0" lang="en-US" sz="3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812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tudents need to be aware of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The problem solving proces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Social factors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 that might impact on collaborative problem sol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ies for maintaining the balance between completing tasks and maintaining constructive working relationships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Building trus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Organizational</a:t>
            </a: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tors that support collabor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dures and mechanisms for interactions and decision-mak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6600"/>
                </a:solidFill>
                <a:latin typeface="Arial"/>
              </a:rPr>
              <a:t>Technica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factors to support a collaborative environ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What is a virtual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group of people who share knowledge and solve problems using ICT. They may never meet face-to-face, conducting all communications via electronic means.’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[IT Study Design]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Virtual teams use network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5734080"/>
            <a:ext cx="7812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ttp://www.itr.com.cn/newsletter/images/eng/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sue05/telecommuting.jpg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4792680" cy="48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7489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reate a Virtual Tea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arent organization can be loc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includ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st peo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regardless of their locatio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offers employees person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off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d productivity**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increase speed of solution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decrease bottlenecks or delays between customers and suppliers or geographically dispersed employe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can reduce commuter times and cos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Ruth &amp; Selby]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Black"/>
              </a:rPr>
              <a:t>Different kinds of virtual tea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Telecommuter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People who generally work from hom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Regionally distributed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ales team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Merchandisers or franchisees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Vendors and trade associations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Car dealership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Neighbourhood or Non-Profit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 associations, clubs and societi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g. VITTA, Environmental Action Group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604080"/>
            <a:ext cx="7489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7812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8136000" cy="27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TTA Conference 2006 u302</a:t>
            </a: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0:27:25Z</dcterms:created>
  <dc:creator>senior</dc:creator>
  <dc:description/>
  <dc:language>en-US</dc:language>
  <cp:lastModifiedBy>Kelvin Baird</cp:lastModifiedBy>
  <dcterms:modified xsi:type="dcterms:W3CDTF">2007-04-07T03:03:36Z</dcterms:modified>
  <cp:revision>41</cp:revision>
  <dc:subject/>
  <dc:title>Virtual Communities and the new IT Applications study design</dc:title>
</cp:coreProperties>
</file>